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40D-87A3-407F-9074-2FB018A1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C74-4D17-4E52-AFE4-BD4155B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DEF-5CCD-4F61-BBCE-31084881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1EB-ADE4-43DC-9741-45B66EE3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77D7-C668-4C9E-8E09-51B9CE4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C1D-DEBF-4B57-8DEF-888D09B2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0B66-21D7-4DD4-BDC9-2260BE7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9DF-DA11-48D2-BE85-E170359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ED31-F3F5-4AAC-8B8B-C0C7234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2FB4-1AD0-4288-B57F-3B19CA0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CC6-9E80-49F0-842D-FD7D9F1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738-42A0-4024-BED0-CB9B0D1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1DD-DAE7-4B6A-ACA5-68D4E20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2C9F-68A4-4BB5-A568-BB3FF6D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8F2E-A7EC-442A-A33F-D93E5499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42D4-E642-42C9-B4C8-9CC45FAF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6B7C-764A-40F6-B129-F4940BE5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88D-3785-487D-99C1-3E60C9C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079-EDCB-43C2-B8F9-131F862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205-94C0-47E4-891A-3F95EE47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461-0502-4DE6-BA0C-2C9FA6A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B5D-6FAE-4542-A75E-5E7144A2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460-7A5F-4196-BC9D-ECC0C6D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904-17CD-4A47-9660-22A3277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E0F-BED5-4A52-9D22-24AA75D2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A03-2B28-4004-953A-8CA44DD2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w Semester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gs to keep in m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major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n your seat when the bell ring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prepar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time for talking and a time for working. Know the differe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all your daily free writ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notebook. You will turn them in on Friday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hey are worth a test gr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a method many writers use to warm up and get ideas on pap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are the guidelin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ive or ten full minutes, write without stopping about anything that comes into your head. Be sure to be school appropriate and respectfu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worry about grammar or about writing complete sentences; just set a timer and g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get stuck, repeat or rhyme the last word you wrot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ut keep writing nonstop until the timer sound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ocused freewriting, you try to focus your thoughts on one subject as you free-writ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bject can be one assigned by your teacher, one you choose, or one you discover in unfocused free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 each of thes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ewrite for 5 minutes- any top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stop writing until the buzzer goes off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ed Freewrite for 5 minutes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ould you rather be stuck in an elevator with 3 wet dogs, or with 3 fat men with bad breath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Bang, Bang, You’re De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the following ques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natural for kids to get picked on in school, and they need to just deal with it. Some kids are just too sensi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better to have ANYONE  to hang out with, rather than being al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okay to take revenge on some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Journal-things for to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 character-name, characteristics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he suspended befo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is he treated at school n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teacher try to help hi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own opin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on minor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7:13:50Z</dcterms:created>
  <dc:creator>Angie</dc:creator>
  <dc:description/>
  <dc:language>en-US</dc:language>
  <cp:lastModifiedBy>Angie McCall</cp:lastModifiedBy>
  <dcterms:modified xsi:type="dcterms:W3CDTF">2013-01-07T16:07:43Z</dcterms:modified>
  <cp:revision>13</cp:revision>
  <dc:subject/>
  <dc:title>New Semester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